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BB4-413A-4968-9C49-ACF64879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0729-E928-4B7F-B342-22E98769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138F-3460-40B9-BE63-876159AA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A17-2060-415E-830B-527255D7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74D5-825A-4CB9-8D9C-9E602D3E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2DF0-4721-43A1-9C89-21D8CE6E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9B23-BAF0-40CF-BA4D-42B2B5FD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11CA-9B17-4B23-8DF3-57ACE3A3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5390-8C59-49DD-8046-AEE60F49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A8D8-BCE2-4546-B0DA-DDF1DF36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FC2B-62A8-4115-9FC4-9A596518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943-E10B-4C97-9C63-AD2E2962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FDF4-D7A7-4285-B8BF-9F4B7811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2BFB-8E06-4B47-A5CB-C9A1FC49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4837-E239-46FB-8171-267D522F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9E63-D07B-4F36-BEA7-8638771A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44D5-24A0-4FE3-85DE-DB57E2F3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80B9-4AF8-40D5-8E64-3E10752D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71C1-3359-4F4B-A375-BC9A6B5F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E8A-0FE7-4061-AE69-9B3A7B5C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9FD5-9395-4B88-9044-4A7FEF6A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496-39F9-46F6-A39B-40237373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69AF-24E7-45A2-953B-BAD0EC63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082E-C1CD-45DA-8C59-897074E9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B4CB-20DA-4EB6-8682-3950B50DF5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8EE4-74EB-4FDF-9EE5-43EF778689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step to the scientific method is ob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make observations using our five senses, which 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observ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litative observ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se WORDS to describe an object or e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large, small, long, short, heavy,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antitative observ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se NUMBERS to measure an object or e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100 litres, 1 tablespoon, 152 klilometres, ¼ mm, 2000 kilograms, 2 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fer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logical explanation of something based on prior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rences are tentative – they can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times there are several logical inferences for a given obser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rences often change when new observations are m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 observations and infere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 = You HEAR Ms. Besgrove call a student down to her off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rence = The student is in trouble, the student is going home, etc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 = You SEE the ground is wet when you come out of the movie thea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rence =  It rained while you were in the mov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2:53:45Z</dcterms:created>
  <dc:creator>Leslie Turpin</dc:creator>
  <dc:description/>
  <dc:language>en-US</dc:language>
  <cp:lastModifiedBy>Australian International Sch</cp:lastModifiedBy>
  <dcterms:modified xsi:type="dcterms:W3CDTF">2005-02-17T00:45:39Z</dcterms:modified>
  <cp:revision>26</cp:revision>
  <dc:subject/>
  <dc:title>Welcome to success!</dc:title>
</cp:coreProperties>
</file>